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40784-1ECC-4644-B3C8-B75008193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D1E95-6A1A-4662-9F9E-2BB734B59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12861-7A14-4876-8F43-4DD4BEDBC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535EB-7C38-42C9-BFD5-151E46BB5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E43841-CC8D-4795-A2AA-E7BF7F09C5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85C4B-6B4B-4754-81CE-D4BB9D117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9AF7B-30AD-4317-968F-0B9288AFF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612CF-98B5-4561-B135-3C559742B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8554B-E2A0-4B44-96DC-549DA45C7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2AEB3-BC28-43C3-9D81-583608947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3A2EE-32F9-4E25-B0E1-9F4B00472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83CC0-8537-439A-BEF3-AB2C07159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28F36-2A48-4333-8B80-59A30F352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3EB92-C8C3-4348-9488-D24BB7050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A2347-5DA9-4261-91E5-A27183FA2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DAB1D1-07A3-40F9-98B8-81A9019471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8BA155-D7EC-4143-96E3-E59B17127B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6E04C-A579-4975-97F7-232552C83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E4909-8425-40A4-AA77-4816970BB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33502-4E98-45B9-A9CD-FD0AB4899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BED8E-AE60-4A17-BA52-EEB43D88E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78D26-F1D8-441A-9734-CE2982244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5FE3A-2140-45CC-9E53-A05C9AD75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CE0F7-64ED-4DBA-9AA4-C054BB4A9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16016-0D56-42D4-AC9D-BF38343598A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6ACA3-7900-4712-B33B-C44D0728452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English</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ct. 6</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genda</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 on t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 in group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L</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on is out during the day just as much as at night but sometimes the sun is so bright you can’t see the moon and if the sun werent so bright, you could see planets and stars alright, too.</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eam:torrent::_____:gal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btor:owe::vendor:_______</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 on </a:t>
            </a:r>
            <a:r>
              <a:rPr b="1" i="1" lang="en-US" sz="3600" spc="-1" strike="noStrike">
                <a:solidFill>
                  <a:srgbClr val="006666"/>
                </a:solidFill>
                <a:latin typeface="Arial"/>
              </a:rPr>
              <a:t>The Pearl</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ll be graded on the follow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st be 2 chapter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chapter must be at least 2 pag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st follow the storyline, do not have Juana murder Kino, or Kino turn into a transformer, etc. Follow Steinbeck’s exampl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ue on Tuesda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oup work</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de who will be in your grou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de what scene or scenes you will re-enac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de who will play parts, where you will film it, etc. et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ue Tuesday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creative, have fun</a:t>
            </a:r>
            <a:r>
              <a:rPr b="0" lang="en-US" sz="2800" spc="-1" strike="noStrike">
                <a:solidFill>
                  <a:srgbClr val="003366"/>
                </a:solidFill>
                <a:latin typeface="Wingdings"/>
                <a:ea typeface="Wingdings"/>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13:27:35Z</dcterms:created>
  <dc:creator>VMS</dc:creator>
  <dc:description/>
  <dc:language>en-US</dc:language>
  <cp:lastModifiedBy>VMS</cp:lastModifiedBy>
  <dcterms:modified xsi:type="dcterms:W3CDTF">2009-10-06T17:56:55Z</dcterms:modified>
  <cp:revision>2</cp:revision>
  <dc:subject/>
  <dc:title>English</dc:title>
</cp:coreProperties>
</file>